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5C5-07CD-4A3E-9DFE-756635FB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E73-11BB-465C-A998-24B287F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358-FBBC-4F3A-9DE8-7DD5173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961-E88D-495F-92A0-90EAAEBF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28A-EB33-40B8-A348-21F2E14B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8367-BF86-4B30-BA1E-024616E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965-A73E-4607-9214-269F9276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0E5-5633-4D1F-B69B-D6E19AB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95B9-F9D8-4114-94CD-C0B57E6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066-BC76-40BF-BA85-C38C4C3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594-CF5E-477C-A724-8EFF86A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F68-D28F-4A59-9D2A-F0DD4B6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B95-7D55-411D-AEA0-8B2C661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2016-7675-4867-848B-CDA939C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D581-81CE-426C-8347-33129AD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F51E-50A8-4AC2-A87C-C6998DF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800-9316-48FE-B11F-5312FD6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BA5-DD65-450C-8343-71B8785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2F3-1C5D-4757-8753-5EB1FDFE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F51-031F-48CA-AAA4-9A746286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13C-1736-43D0-9434-8CDC84F5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6FF-D24F-4ADA-8A41-B1B3BE78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EBC-3F6F-44FB-8EF0-7098D7A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085-28EB-45C0-8202-D2695BA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894-259D-449D-B370-DB3252372B8D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EC6-EBE5-4C15-AE5E-BBAF5D8CF05D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Redução de Risco </a:t>
            </a:r>
            <a:br>
              <a:rPr sz="4000"/>
            </a:b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Ergonômico em Bicicl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objetivo des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o é alertar 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uário para os ris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 uma bicicleta m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ida po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r à coluna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dar alternativ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redução dess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is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bycicle_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Interface Usuário -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selim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80160" cy="4343400"/>
          </a:xfrm>
          <a:prstGeom prst="rect">
            <a:avLst/>
          </a:prstGeom>
          <a:ln w="0">
            <a:noFill/>
          </a:ln>
        </p:spPr>
      </p:pic>
      <p:pic>
        <p:nvPicPr>
          <p:cNvPr id="153" name="selim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929040" cy="4372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6035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 Fino - Mai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6019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– men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daptação do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selim4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selim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5181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fino usado anterior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257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usado atual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Visão Fi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image01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71800" cy="2801880"/>
          </a:xfrm>
          <a:prstGeom prst="rect">
            <a:avLst/>
          </a:prstGeom>
          <a:ln w="0">
            <a:noFill/>
          </a:ln>
        </p:spPr>
      </p:pic>
      <p:pic>
        <p:nvPicPr>
          <p:cNvPr id="163" name="image040" descr=""/>
          <p:cNvPicPr/>
          <p:nvPr/>
        </p:nvPicPr>
        <p:blipFill>
          <a:blip r:embed="rId2"/>
          <a:stretch/>
        </p:blipFill>
        <p:spPr>
          <a:xfrm>
            <a:off x="3871800" y="1752480"/>
            <a:ext cx="5272200" cy="5105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9625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iclista em bicicle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 adapt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952880"/>
            <a:ext cx="4267080" cy="1524240"/>
          </a:xfrm>
          <a:custGeom>
            <a:avLst/>
            <a:gdLst>
              <a:gd name="textAreaLeft" fmla="*/ 666720 w 4267080"/>
              <a:gd name="textAreaRight" fmla="*/ 3733920 w 4267080"/>
              <a:gd name="textAreaTop" fmla="*/ 380880 h 1524240"/>
              <a:gd name="textAreaBottom" fmla="*/ 1143360 h 1524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clista 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icicleta adapt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752480"/>
            <a:ext cx="9144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99"/>
                </a:solidFill>
                <a:latin typeface="Times New Roman"/>
              </a:rPr>
              <a:t>http://www.areaseg.com/artigo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6483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los Alberto Marang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ril de 200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ste arquivo na internet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Breve Visão das Bicicle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j1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j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elerífero,16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rausiana,18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sp3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j3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35989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winn Phantom, 1958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943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Autopropulsada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700-18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odelos de Bicicletas Modern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image001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image028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image026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023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Standard A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Competi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/Passeio Femin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 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image013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image009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011" descr=""/>
          <p:cNvPicPr/>
          <p:nvPr/>
        </p:nvPicPr>
        <p:blipFill>
          <a:blip r:embed="rId3"/>
          <a:stretch/>
        </p:blipFill>
        <p:spPr>
          <a:xfrm>
            <a:off x="0" y="3124080"/>
            <a:ext cx="311004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52680" y="5715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7150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715000"/>
            <a:ext cx="2590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desconfortável e coluna inclinada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9080" y="25909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valo-Caval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2590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to-Motoqu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-Ciclis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28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ões usuais para baixas veloc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 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image017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590920" cy="2230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020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image015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692440" cy="222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2362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ão usual para alta veloc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486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6760" y="54864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9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95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a: os valores dos ângulos são aproxim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nálise do Usuá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te Estudo Foram Considerados os Seguintes Ite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876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. Condições de Saúde do Usuá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bicicletas são uma boa fonte de exercício, apesar de tudo, mas pessoas com problemas de coluna, LER/DORT e outras doenças pré-existentes devem tomar muito cuidado ao usar bicicletas. A elevada curvatura e o esforço feito ao andar e pedalar podem trazer problemas aos portadores de problemas na coluna. Os portadores de LER/DORT também podem ter problemas e sentir dores ao segurar o guidã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cicleta e em particular sentir dores ao usar os freios-de-mão, pois estes exigem que as mãos fiquem tensionadas por algum tempo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73392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tura e Pes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-se também levar em conta a altura e o peso do usuário. Na bicicleta, o  selim,deve ser regulado de acordo com a altura do usuário e o tamanho de suas pernas. O peso também é importante pois dele depende diretamente a força que deverá ser feita nos pedais para fazer a bicicleta andar. O selim é a parte da bicicleta que mais é influenciada pelo peso do ciclista. Este pode inclusive quebrar o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 a sofrer avarias em poucas semanas se o peso for muito elevado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486400"/>
            <a:ext cx="838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stinação de U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é imprescindível usar a bicicleta certa para o fim ao qual ela  se destina, quer seja trabalho, lazer ou esporte. Não é de bom senso usar uma bicicleta de competições esportivas para ir ao trabalho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Ergono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09680"/>
            <a:ext cx="8763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rgonomia tem como objetivo adaptar o trabalho ao homem. Em um cas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 gener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ste da bicicleta a adaptação foi da máquina ao homem, para melhor servi-lo . Para diminuir os riscos ergonômicos da bicicleta, foi feito um trabalho de adaptação experimental de várias partes e peças de uma bicicleta. Foram mudados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h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Guid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image029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91120" cy="2822760"/>
          </a:xfrm>
          <a:prstGeom prst="rect">
            <a:avLst/>
          </a:prstGeom>
          <a:ln w="0">
            <a:noFill/>
          </a:ln>
        </p:spPr>
      </p:pic>
      <p:pic>
        <p:nvPicPr>
          <p:cNvPr id="141" name="image031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79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4724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similar ao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724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ada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562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7150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uidão adaptado ficou cerca de 30 cm mais alto que o guidão original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Punho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Cabos do Guidão e Puxadores de Freio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bike7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2935080"/>
          </a:xfrm>
          <a:prstGeom prst="rect">
            <a:avLst/>
          </a:prstGeom>
          <a:ln w="0">
            <a:noFill/>
          </a:ln>
        </p:spPr>
      </p:pic>
      <p:pic>
        <p:nvPicPr>
          <p:cNvPr id="148" name="bike6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3962520" cy="29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1055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errada. Tendões e musculatura da mão tension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7160" y="510552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adotada. Tendõe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sculatura da rerlax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5:18:21Z</dcterms:created>
  <dc:creator>USUARIO</dc:creator>
  <dc:description/>
  <dc:language>en-US</dc:language>
  <cp:lastModifiedBy>USUARIO</cp:lastModifiedBy>
  <dcterms:modified xsi:type="dcterms:W3CDTF">2002-04-05T15:27:46Z</dcterms:modified>
  <cp:revision>65</cp:revision>
  <dc:subject/>
  <dc:title>Redução de Risco  Ergonômico em Bicicleta</dc:title>
</cp:coreProperties>
</file>